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C11-FA28-4915-AF6A-CBB921B0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85C-80BF-45F5-A7C2-3EFECB98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148-C747-4C9C-9DE8-22ED6B1C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2D2-C5AC-49ED-BD89-39ADD119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71D-CDDF-41F2-9FA7-185C7E8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858-DC58-4FF7-8443-861700BC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0AD-24A1-4720-A0BF-6DE1787B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D38-CF68-4077-BAF9-78B17449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1DC-BA30-46AE-9D63-C6C7F3BB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0C8-0BB6-488F-BE9F-CA7874E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569-DBB5-4ED1-92E9-C71F2C3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B64-19DF-4067-8C91-0E2E766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29A5-DE51-47C2-AA42-2EA3A3A7A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Subjuntivo/ Indicativo/ Infinitiv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609480" y="18288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15. _______ (ser) falso que nosotros 16.___________ (tener) un proyec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143000" y="17366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886200" y="2444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enga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80880" y="18288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Yo 17. ________ (mandar) que mis amigos 18._______ (repetir) las pala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884240" y="17035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a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809880" y="244476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pi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14400" y="182880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s malo que los alumnos 19._______________ (cruzar) la calle s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362320" y="2286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uc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685800" y="18288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s importante 20._______________ (salir) inmedia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209680" y="244476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al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219320" y="1828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s cierto que 21.________ (haber) mucha gente aqu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5105520" y="1689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371600" y="18288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Dudo que Manuel 22.________ (competir) en el torne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898640" y="2444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mp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71600" y="182880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s triste que 23._______________ (haber) gatos sin ho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09960" y="2286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a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371600" y="182880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e gusta que Uds. 24.___________ (saber) las respue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144880" y="2444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e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icardo 1. ___________ (pensar) que Emily   2. _____________ (viajar) a Florida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2743200" y="13352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ien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922480" y="204624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ia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am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3. ____________ (esperar) que Lori 4. _____________ (comprar) las tortilla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743200" y="13352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sp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322880" y="21956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mp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anuel 5. _____________ (creer) que los alumnos 6. _____________ (estudiar) a vec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743200" y="13352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0764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stu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7. ____________ (ser) preciso que ellos 8. _____________ (participar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295280" y="18064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590920" y="2514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rtici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s importante 9. _____________ (ayudar) a los dem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ás.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57800" y="2043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y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consejo que t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10._______________ (ir) a clase inmediatamente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778120" y="2043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ay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371600" y="1523880"/>
            <a:ext cx="701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Yo 11. ____________ (rogar) que t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12._______________ (hacer) la tare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743200" y="13352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ue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862520" y="20988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a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57200" y="18288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anuel 13. _________ (negar) que Enrique 14.___________ (mentir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936880" y="17366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ie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357800" y="2444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i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1:57:48Z</dcterms:created>
  <dc:creator>jbarber</dc:creator>
  <dc:description/>
  <dc:language>en-US</dc:language>
  <cp:lastModifiedBy>Jessica Kaplan</cp:lastModifiedBy>
  <dcterms:modified xsi:type="dcterms:W3CDTF">2013-03-18T13:35:31Z</dcterms:modified>
  <cp:revision>18</cp:revision>
  <dc:subject/>
  <dc:title>Ricardo 1. ___________ (pensar) que Emily   2. _____________ (viajar) a Florida. </dc:title>
</cp:coreProperties>
</file>